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breeze.wav" ContentType="audio/x-wav"/>
  <Override PartName="/ppt/media/image8.jpeg" ContentType="image/jpeg"/>
  <Override PartName="/ppt/media/whoosh.wav" ContentType="audio/x-wav"/>
  <Override PartName="/ppt/media/explode.wav" ContentType="audio/x-wav"/>
  <Override PartName="/ppt/media/image1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11.png" ContentType="image/png"/>
  <Override PartName="/ppt/media/image6.wmf" ContentType="image/x-wmf"/>
  <Override PartName="/ppt/media/chimes.wav" ContentType="audio/x-wav"/>
  <Override PartName="/ppt/media/image12.png" ContentType="image/png"/>
  <Override PartName="/ppt/media/image7.wmf" ContentType="image/x-wmf"/>
  <Override PartName="/ppt/media/drumroll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4815-D9E8-457E-9C2C-DE267DA1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1B01-C7C4-49EB-9BBF-83AECA829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6587-59CF-4DCF-AEF7-18567A80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3255-7A20-4E92-A365-928AEEC73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E0AD0-2058-4181-AC32-43F40B75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01AB-A31D-4137-AC43-B22AB62A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C038C-85C1-4181-A8B2-C25F3AA2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8EB4-9A50-44F4-954F-90085C64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ECAE-5330-4963-9525-D95784D2F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4AF78-4AAC-4BA1-B980-213C96459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0AB27-C116-4534-922A-F8019A89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ED30-9731-4387-ADE4-A8E4C8F1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1F7F-4E39-4E9B-A770-BF5C932E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92FC-A242-414A-BE81-69E0A75B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0CB4-4ECE-4407-B6EC-869B4307D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BD1CA-0CDA-4A35-83B0-C73AF706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6AF1-E0AE-442C-ACCF-9E96A6DF1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FC34-9FA9-4F91-8876-795E9C54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2C96-4453-457E-BA83-9D88110C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6FFE-1AB0-407F-BCEA-988F5B22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4B59-D4C5-4613-97C6-F403AAD3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D09A-CEC9-4526-8956-CE89C06C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1E29-2359-46E2-8A05-64363D32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5C52-CE86-4255-982C-008D3F19E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E7C4-50C9-4DBE-A04E-3A5D39534ABD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5396-ED09-400F-89EC-EED5FEFD56D1}" type="slidenum">
              <a:rPr b="0" lang="en-US" sz="1400" spc="-1" strike="noStrike">
                <a:solidFill>
                  <a:srgbClr val="33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tset.com.tw/images/man%20with%20question%20mark.gif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rawbooks.com/123_draw_series/73-images/07_04.gif" TargetMode="External"/><Relationship Id="rId2" Type="http://schemas.openxmlformats.org/officeDocument/2006/relationships/image" Target="../media/image9.jpe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20000"/>
                </a:solidFill>
                <a:latin typeface="Comic Sans MS"/>
              </a:rPr>
              <a:t>Mini Lesson!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00"/>
                </a:solidFill>
                <a:latin typeface="Comic Sans MS"/>
              </a:rPr>
              <a:t>Lesson on Personif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006800" y="3733920"/>
            <a:ext cx="1098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Do you understand it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I hope you understand this writing technique a little better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There are several different stations that you will have to go to and show your proficiency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Be prepared to go to the different </a:t>
            </a: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ations moving your card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use your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time wisely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, complete the </a:t>
            </a:r>
            <a:r>
              <a:rPr b="0" lang="en-US" sz="2800" spc="-1" strike="noStrike">
                <a:solidFill>
                  <a:srgbClr val="cc6018"/>
                </a:solidFill>
                <a:latin typeface="Arial"/>
              </a:rPr>
              <a:t>checklist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 so that you know where you’ve been!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274320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080" y="5181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9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4" dur="2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In Beverly Cleary’s Words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2095560"/>
            <a:ext cx="5638680" cy="2705040"/>
          </a:xfrm>
          <a:prstGeom prst="wedgeRoundRectCallout">
            <a:avLst>
              <a:gd name="adj1" fmla="val 49462"/>
              <a:gd name="adj2" fmla="val 71773"/>
              <a:gd name="adj3" fmla="val 16667"/>
            </a:avLst>
          </a:prstGeom>
          <a:noFill/>
          <a:ln w="1584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263844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Minutes crawled by. The long Oregon dusk turned into night.  The girls turned on the television set to a program about people in a hospital . . .”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6858000" y="4114800"/>
            <a:ext cx="15746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an minutes really crawl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4800240"/>
            <a:ext cx="86104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What do you think Beverly Cleary meant when she said that the minutes crawled by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228600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Can you imagine minutes crawling across our classroom floor?  Too Silly!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86200" y="3352680"/>
            <a:ext cx="13622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Can minutes really crawl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In </a:t>
            </a:r>
            <a:r>
              <a:rPr b="0" i="1" lang="en-US" sz="3200" spc="-1" strike="noStrike">
                <a:solidFill>
                  <a:srgbClr val="330000"/>
                </a:solidFill>
                <a:latin typeface="Arial"/>
              </a:rPr>
              <a:t>Ramona Forever 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ime went by so slowly for Ramona and her sister that they thought the minutes where crawling.  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09480" y="4724280"/>
          <a:ext cx="1479600" cy="143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24280"/>
                    <a:ext cx="147960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666880" y="4114800"/>
            <a:ext cx="556272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Beverly Cleary was using a writing technique called: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38280" y="4648320"/>
            <a:ext cx="55627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PERSONIFICATION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What is personification?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Personification is when you describe nonliving things by using human actions or emotions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22860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What does this fancy word mean?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8098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Still confused?  Don’t worry – let’s look at some examples to help understand personification better.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33280" indent="-2332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13280" y="4419720"/>
            <a:ext cx="11682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95280" y="3429000"/>
            <a:ext cx="6553440" cy="22096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Sun Danc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2286000"/>
            <a:ext cx="6553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un danced across the sky on the hot summer day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6000" indent="-21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6000" indent="-2160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0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429000"/>
            <a:ext cx="1524240" cy="1395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219320" y="3809880"/>
            <a:ext cx="6553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the sun really dance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9240" indent="-21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9240" indent="-2192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animMotion origin="layout" path="M 3.33333E-006 -4.44444E-006 C -0.00087 0.11413 -0.00157 0.22825 -0.03212 0.23218 C -0.06268 0.23612 -0.14011 0.02362 -0.18386 0.02362 C -0.22761 0.02362 -0.25643 0.22894 -0.29514 0.23218 C -0.33386 0.23542 -0.37674 0.0419 -0.41615 0.04306 C -0.45556 0.04422 -0.49045 0.24584 -0.53212 0.23866 C -0.57379 0.23149 -0.61997 0.11575 -0.66615 -4.44444E-006 E">
                                      <p:cBhvr>
                                        <p:cTn id="148" dur="52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evt="end">
                                        <p:tn val="147"/>
                                      </p:cond>
                                    </p:stCondLst>
                                  </p:cTn>
                                  <p:tgtEl>
                                    <p:spTgt spid="1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Pencil Scream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228600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2000"/>
          </a:bodyPr>
          <a:p>
            <a:pPr marL="178200" indent="-178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pencil screamed as the boy turned the handle on the pencil sharpener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178200" indent="-178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178200" indent="-178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286000" y="3962520"/>
            <a:ext cx="1512720" cy="2209680"/>
            <a:chOff x="2286000" y="3962520"/>
            <a:chExt cx="1512720" cy="2209680"/>
          </a:xfrm>
        </p:grpSpPr>
        <p:pic>
          <p:nvPicPr>
            <p:cNvPr id="114" name="" descr="cartoon pencil"/>
            <p:cNvPicPr/>
            <p:nvPr/>
          </p:nvPicPr>
          <p:blipFill>
            <a:blip r:embed="rId1"/>
            <a:stretch/>
          </p:blipFill>
          <p:spPr>
            <a:xfrm>
              <a:off x="2286000" y="3962520"/>
              <a:ext cx="151272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2895480" y="5029200"/>
              <a:ext cx="304920" cy="228600"/>
            </a:xfrm>
            <a:custGeom>
              <a:avLst/>
              <a:gdLst/>
              <a:ahLst/>
              <a:rect l="l" t="t" r="r" b="b"/>
              <a:pathLst>
                <a:path w="288" h="240">
                  <a:moveTo>
                    <a:pt x="0" y="0"/>
                  </a:moveTo>
                  <a:cubicBezTo>
                    <a:pt x="48" y="120"/>
                    <a:pt x="96" y="240"/>
                    <a:pt x="144" y="240"/>
                  </a:cubicBezTo>
                  <a:cubicBezTo>
                    <a:pt x="192" y="240"/>
                    <a:pt x="240" y="120"/>
                    <a:pt x="288" y="0"/>
                  </a:cubicBezTo>
                </a:path>
              </a:pathLst>
            </a:custGeom>
            <a:noFill/>
            <a:ln w="9360">
              <a:solidFill>
                <a:srgbClr val="33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3809880" y="3581280"/>
            <a:ext cx="2514600" cy="914400"/>
          </a:xfrm>
          <a:prstGeom prst="wedgeEllipseCallout">
            <a:avLst>
              <a:gd name="adj1" fmla="val -45263"/>
              <a:gd name="adj2" fmla="val 100000"/>
            </a:avLst>
          </a:prstGeom>
          <a:solidFill>
            <a:srgbClr val="ff0000"/>
          </a:solidFill>
          <a:ln w="9360">
            <a:solidFill>
              <a:srgbClr val="33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00"/>
                </a:solidFill>
                <a:latin typeface="Arial"/>
              </a:rPr>
              <a:t>AAHHHH!</a:t>
            </a:r>
            <a:endParaRPr b="0" lang="en-US" sz="2400" spc="-1" strike="noStrike">
              <a:solidFill>
                <a:srgbClr val="33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4800600"/>
            <a:ext cx="37339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s your pencil ever screamed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Old Car Groaned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21337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old car groaned as it made its way down the long open road.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12400" indent="-212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12400" indent="-212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990720" y="3371760"/>
            <a:ext cx="4190760" cy="2571840"/>
            <a:chOff x="990720" y="3371760"/>
            <a:chExt cx="4190760" cy="2571840"/>
          </a:xfrm>
        </p:grpSpPr>
        <p:pic>
          <p:nvPicPr>
            <p:cNvPr id="121" name="" descr=""/>
            <p:cNvPicPr/>
            <p:nvPr/>
          </p:nvPicPr>
          <p:blipFill>
            <a:blip r:embed="rId1"/>
            <a:stretch/>
          </p:blipFill>
          <p:spPr>
            <a:xfrm>
              <a:off x="990720" y="4286160"/>
              <a:ext cx="243828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3124080" y="3371760"/>
              <a:ext cx="2057400" cy="1143000"/>
            </a:xfrm>
            <a:prstGeom prst="cloudCallout">
              <a:avLst>
                <a:gd name="adj1" fmla="val -43750"/>
                <a:gd name="adj2" fmla="val 70000"/>
              </a:avLst>
            </a:prstGeom>
            <a:noFill/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0000"/>
                  </a:solidFill>
                  <a:latin typeface="Arial"/>
                </a:rPr>
                <a:t>I can’t make it!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533520" y="3962520"/>
            <a:ext cx="3124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marL="229680" indent="-229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Has your car ever groaned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29680" indent="-229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3.33333E-006 L 0.44583 -0.00139 E">
                                      <p:cBhvr>
                                        <p:cTn id="199" dur="84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0000"/>
                </a:solidFill>
                <a:latin typeface="Arial"/>
              </a:rPr>
              <a:t>The Strawberry Spoke</a:t>
            </a:r>
            <a:endParaRPr b="0" lang="en-US" sz="4400" spc="-1" strike="noStrike">
              <a:solidFill>
                <a:srgbClr val="32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2133720"/>
            <a:ext cx="7467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7000"/>
          </a:bodyPr>
          <a:p>
            <a:pPr marL="286200" indent="-286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The strawberries seemed to say, "Eat me first!" 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buClr>
                <a:srgbClr val="33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  <a:p>
            <a:pPr marL="286200" indent="-286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6593040" y="3429000"/>
            <a:ext cx="1636560" cy="220968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3164040" y="3505320"/>
            <a:ext cx="2743200" cy="1752480"/>
            <a:chOff x="3164040" y="3505320"/>
            <a:chExt cx="2743200" cy="1752480"/>
          </a:xfrm>
        </p:grpSpPr>
        <p:sp>
          <p:nvSpPr>
            <p:cNvPr id="128" name=""/>
            <p:cNvSpPr/>
            <p:nvPr/>
          </p:nvSpPr>
          <p:spPr>
            <a:xfrm>
              <a:off x="3164040" y="3505320"/>
              <a:ext cx="2743200" cy="1752480"/>
            </a:xfrm>
            <a:prstGeom prst="wedgeEllipseCallout">
              <a:avLst>
                <a:gd name="adj1" fmla="val 78819"/>
                <a:gd name="adj2" fmla="val 42208"/>
              </a:avLst>
            </a:prstGeom>
            <a:noFill/>
            <a:ln w="9360">
              <a:solidFill>
                <a:srgbClr val="33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44920" y="3886200"/>
              <a:ext cx="1981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d0d"/>
                  </a:solidFill>
                  <a:latin typeface="Arial"/>
                </a:rPr>
                <a:t>Eat me first – I am yummy!</a:t>
              </a:r>
              <a:endParaRPr b="0" lang="en-US" sz="2400" spc="-1" strike="noStrike">
                <a:solidFill>
                  <a:srgbClr val="33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457200" y="4952880"/>
            <a:ext cx="3429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0000"/>
                </a:solidFill>
                <a:latin typeface="Arial"/>
              </a:rPr>
              <a:t>Do strawberries really talk?</a:t>
            </a:r>
            <a:endParaRPr b="0" lang="en-US" sz="3200" spc="-1" strike="noStrike">
              <a:solidFill>
                <a:srgbClr val="330000"/>
              </a:solidFill>
              <a:latin typeface="Arial"/>
            </a:endParaRPr>
          </a:p>
          <a:p>
            <a:pPr marL="226080" indent="-226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3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0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8T01:07:09Z</dcterms:created>
  <dc:creator>Lynn Medea</dc:creator>
  <dc:description/>
  <dc:language>en-US</dc:language>
  <cp:lastModifiedBy>NPSD</cp:lastModifiedBy>
  <dcterms:modified xsi:type="dcterms:W3CDTF">2008-11-06T14:49:21Z</dcterms:modified>
  <cp:revision>21</cp:revision>
  <dc:subject/>
  <dc:title>PowerPoint Presentation</dc:title>
</cp:coreProperties>
</file>